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12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BD2051-C0D4-4487-9DEA-4461406395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427EB-685C-4019-AE2D-90C2FB4300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B3BA5-E8AC-4454-BCD3-B3813D63EF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4C0E-B364-43A9-862E-5455A3A8C6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17881-09A4-402D-8C65-05D2F5A89C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C72977-7109-4315-A7CA-D70B9B75D9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19E9C6-1DFC-4541-9855-6AA3A5B2DB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1FA33C-FB72-40F5-A2B2-7B819C2D6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0D033B-44A3-4273-BD43-8E361900E9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68A57C-DBAF-4B49-BC97-5B0924F5A4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27371-0849-407F-BAF8-62525D876C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56F182-7C9C-4022-867C-FE1A20905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518FF1-1A1E-4443-8399-1466A35C02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32F60-90AE-482F-8758-A16700B46E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825BF75-8F9E-4C12-B770-9F1BEBE44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94100F-EA0B-454A-85A1-F060F74F72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AFBF3D-200F-45EA-9395-5E13ECFCC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CC662-715C-4F4C-8B2C-787D5DF9ED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C4A04-76A3-4980-B1C9-8582F6B6FB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27FB36-4FA8-4185-9D2A-3A33E7D570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15192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FE5E1-FC96-456B-862F-6D8199B86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B5DBB-75E6-49DA-B743-F73E8A9F2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F686A-B0D0-4669-8901-23BA3B8F45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4AD7E-23A9-471B-88E3-5AAB787E3B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F8B568-CDDD-4041-A58D-607D9625C208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12E8B0-EAFE-4BF0-B861-93848AEF32E1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5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Data Encoding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-Level (NRZ-L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different voltages for 0 and 1 bi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ltage constant during bit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I.e. no return to zero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Absence of voltage for zero, constant positive voltage for on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often, negative voltage for one value and positive for the oth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s is NRZ-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return to Zero Inverte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on o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tant voltage pulse for duration of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encoded as presence or absence of signal transition at beginning of bit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ition (low to high or high to low) denotes a binary 1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transition denotes binary 0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 example of differential enco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7" name="" descr=""/>
          <p:cNvPicPr/>
          <p:nvPr/>
        </p:nvPicPr>
        <p:blipFill>
          <a:blip r:embed="rId1"/>
          <a:srcRect l="3045" t="0" r="0" b="69874"/>
          <a:stretch/>
        </p:blipFill>
        <p:spPr>
          <a:xfrm>
            <a:off x="685800" y="1752480"/>
            <a:ext cx="7772400" cy="277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fferential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epresented by changes rather than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reliable detection of transition rather than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complex transmission layouts it is easy to lose sense of polar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RZ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to engine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ke good use of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synchronization cap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for magnetic recor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often used for signal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more than two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zero represented by no lin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represented by positive or negative pul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ulses alternate in pola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loss of sync if a long string of ones (zeros still a proble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net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er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sy 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ne represented by absence of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Zero represented by alternating positive and neg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advantage or disadvantage over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olar-AMI and Pseudoter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grpSp>
        <p:nvGrpSpPr>
          <p:cNvPr id="117" name=""/>
          <p:cNvGrpSpPr/>
          <p:nvPr/>
        </p:nvGrpSpPr>
        <p:grpSpPr>
          <a:xfrm>
            <a:off x="457200" y="2286000"/>
            <a:ext cx="7619400" cy="2657160"/>
            <a:chOff x="457200" y="2286000"/>
            <a:chExt cx="7619400" cy="2657160"/>
          </a:xfrm>
        </p:grpSpPr>
        <p:pic>
          <p:nvPicPr>
            <p:cNvPr id="118" name="" descr=""/>
            <p:cNvPicPr/>
            <p:nvPr/>
          </p:nvPicPr>
          <p:blipFill>
            <a:blip r:embed="rId1"/>
            <a:stretch/>
          </p:blipFill>
          <p:spPr>
            <a:xfrm>
              <a:off x="481680" y="2634480"/>
              <a:ext cx="7594920" cy="23086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9" name="" descr=""/>
            <p:cNvPicPr/>
            <p:nvPr/>
          </p:nvPicPr>
          <p:blipFill>
            <a:blip r:embed="rId2"/>
            <a:stretch/>
          </p:blipFill>
          <p:spPr>
            <a:xfrm>
              <a:off x="457200" y="2286000"/>
              <a:ext cx="7594920" cy="52272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rade Off for Multilevel Bina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t as efficient as NR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signal element only represents on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 3 level system could represent log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ahoma"/>
              </a:rPr>
              <a:t>2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 = 1.58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must distinguish between three levels 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+A, -A, 0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approx. 3dB more signal power for same probability of bit err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5000"/>
          </a:bodyPr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in middle of each bit perio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serves as clock and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w to high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 to low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91600" indent="-291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dbit transition is clocking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ition at start of a bit period represents zer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transition at start of a bit period represents on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e: this is a differential encoding sche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-2426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d by IEEE 802.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314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data, 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iphase Pros and C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t least one transition per bit time and possibly tw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ximum modulation rate is twice NR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quires mor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ation on mid bit transition (self clocking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19960" indent="-2239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bsence of expected transi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Rat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27" name="" descr=""/>
          <p:cNvPicPr/>
          <p:nvPr/>
        </p:nvPicPr>
        <p:blipFill>
          <a:blip r:embed="rId1"/>
          <a:stretch/>
        </p:blipFill>
        <p:spPr>
          <a:xfrm>
            <a:off x="1981080" y="1371600"/>
            <a:ext cx="4851360" cy="5486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crambl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scrambling to replace sequences that would produce constant volt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lling sequence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produce enough transitions to syn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be recognized by receiver and replace with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ame length as origi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dc compon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long sequences of zero level line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reduction in 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 capabil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With 8 Zeros Substitu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positive encode as 000+-0-+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octet of all zeros and last voltage pulse preceding was negative encode as 000-+0+-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uses two violations of AMI cod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likely to occur as a result of noi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detects and interprets as octet of all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Density Bipolar 3 Zero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sed on bipolar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ring of four zeros replaced with one or two pul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B8ZS and HDB3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5" name="" descr=""/>
          <p:cNvPicPr/>
          <p:nvPr/>
        </p:nvPicPr>
        <p:blipFill>
          <a:blip r:embed="rId1"/>
          <a:srcRect l="0" t="0" r="0" b="9164"/>
          <a:stretch/>
        </p:blipFill>
        <p:spPr>
          <a:xfrm>
            <a:off x="838080" y="1447920"/>
            <a:ext cx="7391520" cy="521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Analog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ublic telephone syste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300Hz to 3400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 modem (modulator-demodulator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mplitude shift keying (A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shift keying (FS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shift keying (PK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 Techniqu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72669"/>
          <a:stretch/>
        </p:blipFill>
        <p:spPr>
          <a:xfrm>
            <a:off x="2286000" y="1371600"/>
            <a:ext cx="4438800" cy="183816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2"/>
          <a:srcRect l="0" t="40938" r="0" b="39803"/>
          <a:stretch/>
        </p:blipFill>
        <p:spPr>
          <a:xfrm>
            <a:off x="2352600" y="3048120"/>
            <a:ext cx="4438800" cy="1295280"/>
          </a:xfrm>
          <a:prstGeom prst="rect">
            <a:avLst/>
          </a:prstGeom>
          <a:ln w="0">
            <a:noFill/>
          </a:ln>
        </p:spPr>
      </p:pic>
      <p:pic>
        <p:nvPicPr>
          <p:cNvPr id="141" name="" descr=""/>
          <p:cNvPicPr/>
          <p:nvPr/>
        </p:nvPicPr>
        <p:blipFill>
          <a:blip r:embed="rId3"/>
          <a:srcRect l="0" t="73798" r="0" b="9207"/>
          <a:stretch/>
        </p:blipFill>
        <p:spPr>
          <a:xfrm>
            <a:off x="2352600" y="4419720"/>
            <a:ext cx="443880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mplitud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amplitudes of carri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ually, one amplitude is zer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presence and absence of carrier is us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usceptible to sudden gain chang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effici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d over optical fi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requency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lues represented by different frequencies (near carrier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ess susceptible to error than A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p to 1200bps on voice grade lin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igh frequency radi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ven higher frequency on LANs using co-ax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gital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rete, discontinuous voltage pul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pulse is a signal ele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data encoded into signal ele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SK on Voice Grade Lin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tretch/>
        </p:blipFill>
        <p:spPr>
          <a:xfrm>
            <a:off x="533520" y="1363680"/>
            <a:ext cx="8001000" cy="4817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hase Shift Key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hase of carrier signal is shifted to represent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P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 shifted relative to previous transmission rather than some reference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Quadrature PSK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icient use by each signal element representing more than one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shifts of </a:t>
            </a:r>
            <a:r>
              <a:rPr b="0" lang="en-US" sz="2400" spc="-1" strike="noStrike">
                <a:solidFill>
                  <a:srgbClr val="000000"/>
                </a:solidFill>
                <a:latin typeface="Symbol"/>
                <a:ea typeface="Symbol"/>
              </a:rPr>
              <a:t>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/2 (90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o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element represents two bi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use 8 phase angles and have more than one 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9600bps modem use 12 angles , four of which have two amplitud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erformance of Digital to Analog Modulation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K and PSK bandwidth directly related to bit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SK bandwidth related to data rate for lower frequencies, but to offset of modulated frequency from carrier at high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See Stallings for math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the presence of noise, bit error rate of PSK and QPSK are about 3dB superior to ASK and FS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Digital Signa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gitiz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version of analog data into digital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transmitted using code other than NRZ-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data can then be converted to analog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alog to digital conversion done using a code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ulse code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ta modu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ignal is sampled at regular intervals at a rate higher than twice the highest signal frequency, the samples contain all the information of the original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35480" indent="-2829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(Proof - Stallings appendix 4A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oice data limited to below 4000Hz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ire 8000 sample per seco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amples (Pulse Amplitude Modulation, PAM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sample assigned digital valu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ulse Code Modulation(PCM)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4 bit system gives 1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Quantizing error or noi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pproximations mean it is impossible to recover original exact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 bit sample gives 256 leve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lity comparable with analog 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8000 samples per second of 8 bits each gives 64kbp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nlinear Enco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antization levels not evenly spac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s overall signal distor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n also be done by compand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input is approximated by a staircase fun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ve up or down one level (</a:t>
            </a:r>
            <a:r>
              <a:rPr b="0" lang="en-US" sz="2800" spc="-1" strike="noStrike">
                <a:solidFill>
                  <a:srgbClr val="000000"/>
                </a:solidFill>
                <a:latin typeface="Symbol"/>
                <a:ea typeface="Symbol"/>
              </a:rPr>
              <a:t></a:t>
            </a: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) at each sample interv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nary behavio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unction moves up or down at each sample interv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exampl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5" name="" descr=""/>
          <p:cNvPicPr/>
          <p:nvPr/>
        </p:nvPicPr>
        <p:blipFill>
          <a:blip r:embed="rId1"/>
          <a:srcRect l="0" t="0" r="0" b="8933"/>
          <a:stretch/>
        </p:blipFill>
        <p:spPr>
          <a:xfrm>
            <a:off x="838080" y="1371600"/>
            <a:ext cx="7315200" cy="5349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ni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signal elements have same sig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ola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logic state represented by positive voltage the other by negative volt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of data transmission in bi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ration or length of a b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e taken for transmitter to emit the b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Oper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rcRect l="0" t="0" r="0" b="10977"/>
          <a:stretch/>
        </p:blipFill>
        <p:spPr>
          <a:xfrm>
            <a:off x="1959120" y="1380960"/>
            <a:ext cx="4975200" cy="532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ta Modulation - Performan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ood voice reproduction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CM - 128 levels (7 bi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Voice bandwidth 4khz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8000 x 7 = 56kbps for PC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compression can improve on thi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nterframe coding techniques for vide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Data, Analo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y modulate analog signals?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frequency can give more efficient 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ermits frequency division multiplexing (chapter 8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ypes of modul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plitu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equenc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ha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nalog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od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73" name="Anmodu" descr=""/>
          <p:cNvPicPr/>
          <p:nvPr/>
        </p:nvPicPr>
        <p:blipFill>
          <a:blip r:embed="rId1"/>
          <a:srcRect l="0" t="0" r="0" b="2084"/>
          <a:stretch/>
        </p:blipFill>
        <p:spPr>
          <a:xfrm>
            <a:off x="4038480" y="0"/>
            <a:ext cx="4692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pread Spectru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or digital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nalog signa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pread data over wide bandwidt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kes jamming and interception ha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requency hop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broadcast over seemingly random series of frequenci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rect Sequ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ach bit is represented by multiple bits in transmitted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ipping cod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5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dulation r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ate at which the signal level chan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easured in baud = signal elements per seco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rk and Spa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1 and Binary 0 respectiv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terpreting Signal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ed to kn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iming of bits - when they start and en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lev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actors affecting successful interpreting of signal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gnal to noise rati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Spectrum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high frequencies reduces required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ck of dc component allows ac coupling via transformer, providing isol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centrate power in the middle of the bandwidt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ck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hronizing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ternal cloc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ync mechanism based on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mparison of Encoding Scheme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rror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be built in to signal encod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interference and noise immun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are better than oth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st and complexit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signal rate (&amp; thus data rate) lead to higher cos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me codes require signal rate greater than data r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151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ncoding Schem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-Level (NRZ-L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nreturn to Zero Inverted (NRZI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ipolar -AM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seudoterna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ifferential Manchest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8Z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HDB3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09-21T13:24:22Z</dcterms:created>
  <dc:creator>Adrian J Pullin</dc:creator>
  <dc:description/>
  <dc:language>en-US</dc:language>
  <cp:lastModifiedBy>Adrian J Pullin</cp:lastModifiedBy>
  <dcterms:modified xsi:type="dcterms:W3CDTF">1999-10-13T14:41:40Z</dcterms:modified>
  <cp:revision>38</cp:revision>
  <dc:subject/>
  <dc:title>William Stallings Data and Computer Communications</dc:title>
</cp:coreProperties>
</file>